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EFB-C3D1-4AB4-AD29-A7E5170B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9FD-8111-4498-B696-06F1D285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B46-4BD3-4AD5-9687-3D82BEFC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155-1453-4852-B68F-71462213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7B3-3254-4814-B20F-E13C36DE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927-9F41-4CED-A945-D3FA3548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B17-7EE0-4D22-A2C0-381D1E51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908-08F5-4B98-8FCD-705B354B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770-BFE9-4381-8D2B-0D129E0F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1C2-283F-4E69-AC71-17CEEB0E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B1B-8BA5-43B8-BF6A-F0818EC5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501-41EF-42A0-9848-15E1FB76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7112-BA06-4A11-B509-84CB092A7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ral.gc.ca/newsletter/images/quebec.gif&amp;imgrefurl=http://www.rural.gc.ca/newsletter/ed1image/ed1imag2_e.phtml&amp;h=311&amp;w=403&amp;sz=9&amp;hl=en&amp;start=14&amp;tbnid=zfK9rLjXMSn6oM:&amp;tbnh=96&amp;tbnw=124&amp;prev=/images%3Fq%3Dmaps%2Bof%2Bquebec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skerville Old Face"/>
              </a:rPr>
              <a:t>Mon Pay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Gilles Vigne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07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aucun expression d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son pensiat etre le coeur de 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son, cet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l’eta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Je pense que Gil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gneau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t que bien que Quebec est un lieu dans une carte, il y a u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for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t unique, un culture qui 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rte 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609480"/>
            <a:ext cx="7972560" cy="39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“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Mon pays cen’est pas un pays, c’est l’hiver”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 est necesiare que vous compreniez que neige soit un grand piece de vie dans Queb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’il y a un chose que Quebecois aiment plus que la neige, il doit leurs grands enviro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560" y="5409720"/>
            <a:ext cx="83055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it-il que les Quebeciose aient fierte dans leurs patrimoine et indepen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72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05320" y="23623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cette chanson aussi dit: Est-il possible que on puisse plaisir a le temps et environment dans tranquill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00600" y="-3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La chambre d’amis sera telle Qu’on veindra des autres sais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 maison c’est votre mais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re mes quarte murs de glac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3733920" cy="464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est bon que les Quebecois aient respect pour bonhomie et partage parce-que murs de glace serainet tres  froid pour une person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A prepare le feu, la pl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Pour les humains de l’horiz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Et les humains sont ma rac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2:50:07Z</dcterms:created>
  <dc:creator>spencer</dc:creator>
  <dc:description/>
  <dc:language>en-US</dc:language>
  <cp:lastModifiedBy>Toni Theisen</cp:lastModifiedBy>
  <dcterms:modified xsi:type="dcterms:W3CDTF">2007-01-12T02:04:08Z</dcterms:modified>
  <cp:revision>6</cp:revision>
  <dc:subject/>
  <dc:title>Mon Pays</dc:title>
</cp:coreProperties>
</file>